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E63-BFCB-4613-A3A1-CAB6A18A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0FB-874A-4718-A785-1DE3C456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EA1-DC49-4C6F-B31C-A332602E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41B-5242-4E08-B44C-D25C7E42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C75A-DD22-4C57-9658-CA4109F7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97A-7C1D-4158-9B8C-90B2ED72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BDF-4FB3-454F-8B33-362ACD3E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4E3-44EB-460D-8678-55CEE0F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5F6-C733-499F-9A8B-22DC72DD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A5C-A738-4784-83AA-E838241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039-BDD7-449D-B48B-BDF9F05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641-84EC-4C6E-B5FD-6FCBA6F5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B64-7616-4A17-B87B-A6500361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ndb.com/people/612/000091339/dennis-rader-1.jpg&amp;imgrefurl=http://www.nndb.com/people/612/000091339/&amp;h=224&amp;w=300&amp;sz=8&amp;tbnid=RIaxA6lggLsJ:&amp;tbnh=82&amp;tbnw=111&amp;hl=en&amp;start=4&amp;prev=/images%3Fq%3DDennis%2BRader%26svnum%3D10%26hl%3Den%26lr%3D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Forensic Psych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Ki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 Prof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ching Serial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TK K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is R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ed 34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grown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as a code enfor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 Scout leader, active in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124080"/>
            <a:ext cx="2590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inal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determine the types of personality characteristics the killer poss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to reduce population from which the killer is am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likelihood of ca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of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rostitutes murdered &amp; disembowe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Thomas Bond (surge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autopsy on #5.  Offered “thoughts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r/Hatred towards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cool, &amp; dar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ear a cloak to hide blood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-aged, loner, no real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iatric Approach to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’s-196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l Berg questioned Peter Kurten (German serial killer in prison 19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analyses to help understand cr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yet behavioral pro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James Bru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explosions in 1940’s-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any angry letters to newspapers, politicians, &amp; utility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Brussel examined &amp; offered though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, ethnicity, motivation, age, personal appearance, mental status, living arrangement, religion, &amp;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Dr. James Brussel"/>
          <p:cNvPicPr/>
          <p:nvPr/>
        </p:nvPicPr>
        <p:blipFill>
          <a:blip r:embed="rId1"/>
          <a:stretch/>
        </p:blipFill>
        <p:spPr>
          <a:xfrm>
            <a:off x="6400800" y="380880"/>
            <a:ext cx="203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BI Profi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increase in number of mu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methods for analyzing unknown offenders in unsolved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ing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“art” than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e scene, weapon, dump site, details about the victim (victimology), transportation, time of day, position of items in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ctim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mov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personal commun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mind &amp; mental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level (prostitute vs. girl in hom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when the killer crossed pa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s opera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ing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minal &amp; Psychiatr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ical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al Killer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oined by Robert Ressler in 197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irst in the Ted Bundy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“accepted” serial killer was Jack the Ri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al Killers – Basic Inf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kill for material “profi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ing often has symbolic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hoose vulnerable victi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itutes, Runaway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Serial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upon 36 incarcerated serial kil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4: By FBI agent Robert Ress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90% are white, m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, sexual, emo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elty towards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Serial Killer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in fire (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60% still wetting bed at age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andoned by fathers; domineering m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e their fa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hood psychiatric problems; high suicide attempt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Motives for Serial Mu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Categories of Serial Kil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siona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d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donistic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xual gratification is main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donistic ki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imilar to lust but not a sexual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– Hannibal Lecter – wanted to be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23:06:38Z</dcterms:created>
  <dc:creator> </dc:creator>
  <dc:description/>
  <dc:language>en-US</dc:language>
  <cp:lastModifiedBy>Theresa DeLaurentis</cp:lastModifiedBy>
  <dcterms:modified xsi:type="dcterms:W3CDTF">2008-03-10T22:57:14Z</dcterms:modified>
  <cp:revision>17</cp:revision>
  <dc:subject/>
  <dc:title>Forensic Psychology</dc:title>
</cp:coreProperties>
</file>